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007-F92F-4B18-B19D-6C13840E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374-7CAC-4D1D-95A1-9D914371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869-1D8F-4479-AD3C-A1D50428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E2D-27DB-4566-BFD9-DE86959B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C6B-EDB1-442F-9EE8-DC972F37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1D4-CE99-48CD-B073-C178FDD5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648-0829-41A6-BF18-6B00004C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34C-7D8F-45CB-BA75-FE4FE4E2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B2C-033B-43EE-B573-DA76266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7B1-8EFF-4B09-B37E-640AD514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ABC-AA41-4AE7-BE22-4BF95F4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425-FF41-4350-8BD9-664068B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A9CA-E783-4AB7-8003-4F4FE543A4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524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3526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اخـتـصـارا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بعض الكل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ماك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عدا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قياس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يام الأسبوع واشهر الس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Common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رموز عا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pr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6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Makkah S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.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niversity 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e.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12:10Z</dcterms:created>
  <dc:creator>Bafayad</dc:creator>
  <dc:description/>
  <dc:language>en-US</dc:language>
  <cp:lastModifiedBy>معمل الانجليزي</cp:lastModifiedBy>
  <dcterms:modified xsi:type="dcterms:W3CDTF">2005-03-27T06:42:15Z</dcterms:modified>
  <cp:revision>8</cp:revision>
  <dc:subject/>
  <dc:title>عرض تقديمي من PowerPoint</dc:title>
</cp:coreProperties>
</file>